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042-1DF7-406F-95B5-F31CBA6F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D54-4A9C-4D7C-A8FF-3D942FF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B24-A126-4AC3-B410-69B6365B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52E-A3A6-4B16-97AB-E2CA8F87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3EF9-6E59-4C13-AF4B-16F21290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80F-AD08-439A-8837-64038B08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927B-D53D-47DB-A92E-770D10B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8F01-0DD0-4A5B-B258-7E03BF8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8960-6EAD-4A1B-80D9-EA25130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80F6-34F4-4F43-824B-A3D0D7FF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BE8-EB72-4D44-93C2-2411D99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6DF-8B02-4B39-B566-95BB552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B98E-55DD-483D-9177-F301E9D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06EA-C239-4983-BF54-1E4EAB3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A43F-26B5-4015-A2D1-733CAE2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9932-299D-4EC5-8467-FF4D92DB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3D5-1055-443F-AEB2-D5C189C4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501-F1C5-4FEC-A24E-45FD7C61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383-2A38-456A-A3AE-8D6C7091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A4D-D071-4206-BCF0-2DD7A249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A4F-914D-44C7-8435-7700A44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93E-D8C6-40CC-ABAC-A4ED875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978-188B-4488-B025-9737CEB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3C6-3D56-493B-822A-CC44B904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1FE-2CE7-4E77-BA36-A4BD8CF0931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24EC-ADC6-4776-9B8E-35332106C49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ometry 4.2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ctober 200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base of a large hemispherical dome is a circle with diameter 80 m.  How far apart are two 20 m parallel support beams that form chords of the support bas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ove the follow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 equilateral and A, B, C are the midpoints of the sides.  Prove that               is an equilateral triang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71600" y="1828800"/>
                <a:ext cx="1066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Q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394160" y="2235240"/>
                <a:ext cx="9144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600200" y="3124080"/>
            <a:ext cx="2286000" cy="198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58920" y="4114800"/>
            <a:ext cx="1168560" cy="976320"/>
          </a:xfrm>
          <a:prstGeom prst="triangle">
            <a:avLst>
              <a:gd name="adj" fmla="val 51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7242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800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04812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35268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as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lop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is a measure of the steepness of a 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ula for slope of a 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09680" y="4038480"/>
                <a:ext cx="3810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titude of a triangle: the perpendicular distance from the base of a figure to the opposite side or vertex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373480" cy="1665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36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4:24:17Z</dcterms:created>
  <dc:creator>HCPS</dc:creator>
  <dc:description/>
  <dc:language>en-US</dc:language>
  <cp:lastModifiedBy>nbdoe</cp:lastModifiedBy>
  <dcterms:modified xsi:type="dcterms:W3CDTF">2007-10-10T00:15:53Z</dcterms:modified>
  <cp:revision>22</cp:revision>
  <dc:subject/>
  <dc:title>Roots &amp; Zeros of Polynomials III</dc:title>
</cp:coreProperties>
</file>